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png" ContentType="image/png"/>
  <Override PartName="/ppt/media/image27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205-D4B8-4C13-B77E-605755DB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C9D-8F99-4350-971C-59A0043A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3B7-C36B-4B98-A2BD-5C3F5CBA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C76-2495-4F96-A225-6E0D0BF9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F43-6874-4099-A32A-3D4049F8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EA54-7DFC-40FA-A670-AA3C09AB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ADD-06C2-4F59-A902-8D59ADAD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ABD-2055-4C1B-BCFB-9CEA7339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3C3-745C-41C7-92A3-011B4409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FE5-0ECB-4CE5-A7D8-3722FAA5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B10-7432-434E-A9E6-B81616E9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06F-A482-40A3-80AC-05D59851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12AC-8988-4FE0-A66A-338A2CA3A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La espanol re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Realizados por Michaella Simone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905120" y="1143000"/>
            <a:ext cx="4647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Edwardian Script ITC"/>
              </a:rPr>
              <a:t>Ropa linda de Ashland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Edwardian Script ITC"/>
              <a:ea typeface="Edwardian Script ITC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57400" y="3200400"/>
            <a:ext cx="4191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echo por Michaella Simonelli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91520" y="0"/>
            <a:ext cx="1752480" cy="2333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0880" y="4495680"/>
            <a:ext cx="1600200" cy="1762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934320" y="3048120"/>
            <a:ext cx="199044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6765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809880" y="4572000"/>
            <a:ext cx="19144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9917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1600200" cy="34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553080" y="68580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76720" y="4114800"/>
            <a:ext cx="1828800" cy="2571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81080" y="1676520"/>
            <a:ext cx="2530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914400"/>
            <a:ext cx="2210040" cy="256284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Se trata de Dalila. Ella lleva un vestido de color naranja y un collar de oro. Dalila tiene una cartera orge para que coincida con su vestido. Ella se ve muy boni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904760" y="34290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4495680"/>
            <a:ext cx="2362320" cy="201420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Se trata de Belinda.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Belinda lleva una falda de volantes de color azul con una blusa blanca. Ella también lleva un reloj de color g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02884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33520"/>
            <a:ext cx="1371600" cy="338580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Se trata de Jade. </a:t>
            </a:r>
            <a:r>
              <a:rPr b="0" lang="es-ES" sz="1800" spc="-1" strike="noStrike">
                <a:solidFill>
                  <a:srgbClr val="6600cc"/>
                </a:solidFill>
                <a:latin typeface="Arial"/>
              </a:rPr>
              <a:t>Jade es rubia. Ella está usando un negro de tirantes vaqueros ajustados y una chaqueta de peluch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248520" y="25142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219320"/>
            <a:ext cx="9144000" cy="8077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82888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3543480"/>
            <a:ext cx="2286000" cy="3314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248520" y="3429000"/>
            <a:ext cx="237168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53080" y="914400"/>
            <a:ext cx="259092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Esto es Ramira. Ella está usando un pijama azul. Tienen penquins en él. No lleva zap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3429000"/>
            <a:ext cx="2057400" cy="31114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9900"/>
                </a:solidFill>
                <a:latin typeface="Arial"/>
              </a:rPr>
              <a:t>Se trata de Albertina. Ella está usando un dres corto y bonito con strpes negro en la parte superior y volantes en la parte inferior. Ella también lleva un lindo sombr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867280" y="525744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295280"/>
            <a:ext cx="2514600" cy="146556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ff"/>
                </a:solidFill>
                <a:latin typeface="Arial"/>
              </a:rPr>
              <a:t>La rubia está por debajo de Lavina. Ella tiene una camisa roja, pantalón corto con ju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6095880" y="14475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52280" y="-685800"/>
            <a:ext cx="9144000" cy="7696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324480" y="304920"/>
            <a:ext cx="2125800" cy="2895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-152280" y="228600"/>
            <a:ext cx="2287440" cy="2971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05320" y="3962520"/>
            <a:ext cx="2286000" cy="2895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320040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 trata es Alanzo. Alanzo es lleva un gris chaqueta y blanco lanzo y cami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37160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42670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Arial"/>
              </a:rPr>
              <a:t>Alejandro es lleva un blanco pantalones y negro camisa. El es tambien gorra de az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91320" y="5486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1066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Se trata es Carlos. Es lleva un negro chaqeta y negro camisa. Carlos es muy gua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7621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1743120" cy="2619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19520" y="3573360"/>
            <a:ext cx="312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La chica rubia es Carmina. Ella es lleva un </a:t>
            </a: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púrpura leopardo vestido. Carmina es tambien lleva purpura flores y puls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2743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81680" y="326880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La chica morena es Adalia. Adalia es lleva un elegante y rojo vestido y gris zap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1148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001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280" y="3192480"/>
            <a:ext cx="213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e trata es Sofia. Ella es lleva verde </a:t>
            </a: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traje de baño. Sofia es tambien lleva blanco puls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71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214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086600" y="2362320"/>
            <a:ext cx="2057400" cy="2666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57200" y="4572000"/>
            <a:ext cx="2381400" cy="19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92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cc"/>
                </a:solidFill>
                <a:latin typeface="Arial"/>
              </a:rPr>
              <a:t>Este es el bebé de María. Ella lleva un lazo blanco y vestido blanco que los partidos! Ella es tan li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0968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304020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Jackie se lleva un lindo sombrero blanco y rosa con una flor en ella. Ella también lleva un mono de color rosa y una camisa blanc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629400" y="42670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51460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ff"/>
                </a:solidFill>
                <a:latin typeface="Arial"/>
              </a:rPr>
              <a:t>Este lindo bebé es maya. A ella le encanta vestir de rosa y marrón. Ella lleva un arco con su atuendo. Maya también se pongan en venta los zapatos</a:t>
            </a:r>
            <a:r>
              <a:rPr b="0" lang="es-ES" sz="1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189540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80880" y="4267080"/>
            <a:ext cx="1524240" cy="2171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629400" y="43434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75420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438280" y="3581280"/>
            <a:ext cx="350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gi"/>
              </a:rPr>
              <a:t>Peace Out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gi"/>
              <a:ea typeface="Gig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52280" y="55627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rush Script MT"/>
              </a:rPr>
              <a:t>Thank you for watching/ reading La espanol Revista! the best magazine in the world!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rush Script MT"/>
              <a:ea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4:48:11Z</dcterms:created>
  <dc:creator>simonellimic</dc:creator>
  <dc:description/>
  <dc:language>en-US</dc:language>
  <cp:lastModifiedBy>simonellimic</cp:lastModifiedBy>
  <dcterms:modified xsi:type="dcterms:W3CDTF">2011-12-16T13:43:36Z</dcterms:modified>
  <cp:revision>13</cp:revision>
  <dc:subject/>
  <dc:title>La espanol revista</dc:title>
</cp:coreProperties>
</file>